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8F0-C48E-4308-8D1F-3C272ECA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EEB5-CA50-4D75-B1AA-BB41556A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3C0-C3C7-45D9-8FFB-242C5075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116-B2B1-411A-B62C-471B52F5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98F-201F-44DB-B07E-E1BC6DEE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6A4-8201-4D18-B7A5-86C7CFE9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8A0-F713-468F-A451-108CFFEC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ACF4-D726-456D-82D2-3027FC52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E4A-3BAF-4900-931B-FDB91AE6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175-E803-4ADC-9BB6-C3C6F3FD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5C7-CB0A-4754-BA02-AAE9C23A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A54-2881-4166-B908-F8E1D973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42A0-A348-469B-A340-D2DD4EF61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is is a test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s ist eine Testdat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11:35:40Z</dcterms:created>
  <dc:creator> </dc:creator>
  <dc:description/>
  <dc:language>en-US</dc:language>
  <cp:lastModifiedBy> </cp:lastModifiedBy>
  <dcterms:modified xsi:type="dcterms:W3CDTF">2003-11-01T11:37:16Z</dcterms:modified>
  <cp:revision>3</cp:revision>
  <dc:subject/>
  <dc:title>Folie 1</dc:title>
</cp:coreProperties>
</file>